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2011A5-3637-4552-AC56-BF7C2944D6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A7394-3F97-4CAC-975F-B34378E6C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8909B6-F3F0-4DEE-B357-5049036937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6DDC83-80F8-44D2-89EA-4B01BB09B1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F5B53-B8E0-4BF9-B657-8D5CE65EA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4E555-5B44-4963-8A45-F6EDB5AAD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37D5D-1EF9-461C-B004-5DFB881BD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C02B6-D128-486A-851E-E44AADA12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67900-4815-4C27-BFED-A83FF87B8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7973D-1A56-4174-8C75-60F3F5C71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9AD17-0642-440A-850D-CD692B8E8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A0BA6-CF85-43E4-BC4C-D6A9F0AC5F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E77D9-9E67-4D3E-A4BE-26AA32F81B0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8920" y="333360"/>
            <a:ext cx="5545080" cy="547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ffff"/>
                </a:solidFill>
                <a:latin typeface="Arial"/>
              </a:rPr>
              <a:t>4.11 The World of Bone, Cornea, and Skin Donation and Transplantat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urn Victims</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ignment 1</a:t>
            </a:r>
            <a:endParaRPr b="0" lang="en-US" sz="32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comprehensive burn programs offer exceptional care and a full range of services.  A burn care team includes plastic surgeons, physiotherapists, occupational therapists, dietitians, pharmacists, social workers and chaplains.  Choose one of the professions that  appeals to you and prepare a short job profile which would include:</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Burn Victims</a:t>
            </a:r>
            <a:endParaRPr b="0" lang="en-US" sz="4400" spc="-1" strike="noStrike">
              <a:solidFill>
                <a:srgbClr val="000000"/>
              </a:solidFill>
              <a:latin typeface="Arial"/>
            </a:endParaRPr>
          </a:p>
        </p:txBody>
      </p:sp>
      <p:sp>
        <p:nvSpPr>
          <p:cNvPr id="4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ssignment 1</a:t>
            </a:r>
            <a:endParaRPr b="0" lang="en-US" sz="3200" spc="-1" strike="noStrike">
              <a:solidFill>
                <a:srgbClr val="000000"/>
              </a:solidFill>
              <a:latin typeface="Arial"/>
            </a:endParaRPr>
          </a:p>
          <a:p>
            <a:pPr>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Job Profile</a:t>
            </a:r>
            <a:endParaRPr b="0" lang="en-US" sz="3200" spc="-1" strike="noStrike">
              <a:solidFill>
                <a:srgbClr val="000000"/>
              </a:solidFill>
              <a:latin typeface="Arial"/>
            </a:endParaRPr>
          </a:p>
          <a:p>
            <a:pPr>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escription of the key responsibilities you would assume as a professional involved with a patients recupe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Burn Victims</a:t>
            </a:r>
            <a:endParaRPr b="0" lang="en-US" sz="4400" spc="-1" strike="noStrike">
              <a:solidFill>
                <a:srgbClr val="000000"/>
              </a:solidFill>
              <a:latin typeface="Arial"/>
            </a:endParaRPr>
          </a:p>
        </p:txBody>
      </p:sp>
      <p:sp>
        <p:nvSpPr>
          <p:cNvPr id="4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ssignment 2</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Investigate the non-cosmetic side of plastic surgery.  Choose a procedure that make a significant difference to a child or adult who has congenital deformities, or acquired medical problems arising from bicycle, motorcycle, or any other accidents/unexpected injur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Bone Donation</a:t>
            </a:r>
            <a:endParaRPr b="0" lang="en-US" sz="44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ssignment </a:t>
            </a:r>
            <a:endParaRPr b="0" lang="en-US" sz="32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Arial"/>
              </a:rPr>
              <a:t>Make a poster of a Skeleton that you would use to teach elementary school children about bones.  Label the bones you think are most important and include in your poster ten interesting facts about our bones and musc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Cornea Donations</a:t>
            </a:r>
            <a:endParaRPr b="0" lang="en-US" sz="44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reate a poster that would encourage people to donate their cornea’s after death.</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Plain piece of white paper will be big enoug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6T20:51:52Z</dcterms:created>
  <dc:creator>Mariajose</dc:creator>
  <dc:description/>
  <dc:language>en-US</dc:language>
  <cp:lastModifiedBy>Jason</cp:lastModifiedBy>
  <dcterms:modified xsi:type="dcterms:W3CDTF">2010-11-22T19:25:12Z</dcterms:modified>
  <cp:revision>52</cp:revision>
  <dc:subject/>
  <dc:title>TITLE</dc:title>
</cp:coreProperties>
</file>